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EE1-6902-4B6D-9DCF-C4FE3C27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8FB-A388-404E-BC79-70998DD2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E04-ACB5-48B8-96E3-7452B8F7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8CA-883B-4F64-8ACD-22090BCD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D2A-972A-40BB-84E8-0A8FF2A3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E9A-85CA-4032-A9F1-D1E32A5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5AF-F9DB-4629-833B-0B09E684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1DD-E49C-4889-BA03-E66E75E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49A-3F5D-4318-8965-98A2C077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88D-C9F2-4B67-9A96-1D4B04A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BF6-9C0F-45A0-B83A-177151AC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E33-B0DA-4482-A00A-E81F0DF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3D7-991C-49B6-B961-BE1F2C8E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69228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zess engem ösvényeden, ó, U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Útjaidat ismertesd meg még jobb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t szívem kiáltja: szeretlek Tég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ős karod támogasson minden nap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 utad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69228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zelíd hangon szólj hozzám, ó, Ur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iss keneted áradjon rám gazdag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gy szívemben égjen szent tüz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s hűséggel kövesselek minden napon, a Te utadon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2:20:54Z</dcterms:created>
  <dc:creator>Balázs</dc:creator>
  <dc:description/>
  <dc:language>en-US</dc:language>
  <cp:lastModifiedBy>Balázs</cp:lastModifiedBy>
  <dcterms:modified xsi:type="dcterms:W3CDTF">2007-01-27T12:21:22Z</dcterms:modified>
  <cp:revision>1</cp:revision>
  <dc:subject/>
  <dc:title>1. dia</dc:title>
</cp:coreProperties>
</file>